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EBF5-950B-4111-A643-D64C20DBE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0BC-189E-433A-A6F6-09129D2923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141A-CC8E-41FE-B2CF-3D1E925A68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81F3-F0C8-4CDD-BF5E-D7DEC8010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D825-5B0A-41C9-8330-F3FACDD83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1120-DE67-4399-A9D5-BDF5AF332B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0B76-D34C-415F-9FC9-FC500566D6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B2F5-05EB-439C-98F8-FD4021EEFB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7F88-975C-4E87-AE8C-960A92D0DA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BBB1-47EF-4BFA-9702-B81537DFD3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C9AB-A08A-46AC-BC63-40F9B51B5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2B48-AF4D-452B-B81F-13435F444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85BC-0504-4715-BD04-FA993BA494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D0F1-65B9-46D3-A23F-4A3E663F26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305D-31C9-4C3F-88AF-1D39B33CF8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7854-8C4F-4061-9BCC-FA98D5749B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D965-D44A-4EA8-B6FC-F0A49C0BDD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B37-76AE-4D1E-87E8-9DA180A4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FC9-C494-44D4-A1B7-5EBDBEB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A39A42-1389-4210-8EE9-2E182799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FD750F-CB8D-470A-B93A-74B833E1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934ADF-07C2-4ACC-A980-8D06104C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C4543-211B-4BF9-A7B9-A128F087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8A86D-ADF5-4679-8680-2D63D938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8BA055-CD52-4CFE-8119-8B2364D5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8B74C-BD96-47CD-8A4D-A233B853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DC3358-40F6-4730-BF44-E8F47BBE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B253E-E327-4A0E-9C78-BDE9EC3A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4EEA6B-3DE8-4E0E-B871-107A2CB7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1E1-EDAE-4EB6-9FA6-780F6F9C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872B7E-1D37-459F-BE5D-30B1E488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6AADFC-DB6F-401D-90EA-3D60791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A87EF-12E4-4383-BB4F-96CD2680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4E5E73-B84A-4B10-91EC-745A2A7A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5E370E-FC91-4748-B747-09C2403F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F1F603-A88F-4A30-8321-0863A0A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D921A0-2195-430D-A9D2-C2C851D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D74B5F-2672-429D-A5F7-A208BFFD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A7A11-C5E9-482A-912E-E478EE36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CA13F4-745A-48B5-9FCD-7891EBE1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1FC-5EA7-4C45-95F0-0C623BCD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E667DF-D11C-4B81-B410-D5B4D95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4D60-1D79-4EE9-8649-CB335A18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CA4-324C-439B-8881-C474BF73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9BD3-67EA-4C7F-B8D7-F0C20C29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88F9-65C5-4779-A5B5-990306C9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D682-850C-4C8E-80A8-3B032049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3D07-BE00-4F7E-B326-66291124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A758-A61F-40E2-8138-8AED93DC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5E3-C838-4261-B899-8A764E91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D76D-D07E-4DE7-8187-4CB12BB5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2FD1-12D4-4250-96A6-E937698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F0BE-160A-4793-89B8-5DD62A68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AC99-FAE1-4F07-BD9C-42799C47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0774-5436-4C7E-BFC9-EF59B531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BD54A-0D22-437F-AD06-0A406AA6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24D8D-07E6-47A9-9D84-2AE7B841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6B531-7CC8-4986-82DA-0B7AB6BC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B63BF-9B21-410A-9D0F-5FB586B9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EC082-92CC-439E-AEC2-F4B24F40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E37-2722-4F5C-94DB-CCD0F5E2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0E15B-7969-4343-9D67-29F77C6A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6E3EC-E3A7-4866-912A-99D070E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3F6F1-CE26-462D-A449-C8D12737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CF92B-88B4-42B1-9A26-A2F234E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0C8A3-CAB8-4B9C-BD77-EEC5E150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A86B7-3509-4BB4-B9AF-D3469D9B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6D1B5-81C1-42D9-B444-2FB4AE2F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6AF1-5CCF-4DB0-9A98-A8447AB3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07CE-EA67-4612-BFC6-2B4D4AEE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8CEA-20E2-4E8E-AA37-C7BFA02E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D1E-A0FE-45E3-9B8A-8353E255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733C-9F37-4DD5-8180-33D5D16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4557-D4A6-4586-90B1-6F4F3DF8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8938-3F48-49C3-A174-25F01BB2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7A52-69E6-49BC-A20E-85F2D6C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3E62-8FA5-4490-8643-329D9B5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A9C1-66C5-43EC-BA29-AB69EB67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6AB2E-8187-4EB0-9732-7B255C31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F5A3-6CB7-4372-B764-2FFB12B1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6FB3-4D1F-4272-953D-89BD47A4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3A911-9182-468F-8B8A-6DE61E5D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E59-0E36-42AB-A9C8-AA45D2D4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225E7-83F1-4A9A-8416-41B2DD99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BDD2C-EF8F-448E-A98D-57178991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BBD03-07C6-45DE-B2B0-7876A4B1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DC1BC-A77A-4185-8C2E-490C2F0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3BEA8-A52D-4D67-9E93-EF5A8CB4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53AEF-C9A3-493F-978E-FBD06E6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033D3-C672-4D99-A08C-2CB7A09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39CBB-2483-4F12-BB31-9166B0F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C1D6C-7840-44DD-A1E5-E6FFA720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9509F-E94A-4CA0-A853-5902D8A4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018-7EC3-4CAC-9E40-3B1D1587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1749F-67B6-4814-A49A-AAA5CD94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6ACE-28F4-404E-B329-7199594C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1D2C-6629-47FE-8DF7-665A2707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E8D31-B908-4434-8F5E-70C0D8EF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FCB6B-FCD1-49F6-B8C5-18A59BBE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2052-AD8C-4F5F-BEF0-2DEDF5BB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9BAA-60FB-46A6-B5F0-88F4900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691F6-7A41-4F68-9401-BA7A64C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32ECD-F5A2-423E-A555-F04650BC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4B7E6-9ACA-40C6-9C54-290BB49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776-3E30-4395-AB9F-5234223B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9F450-8219-4729-AC5F-19F178AD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12D5-4DAE-4819-AD23-F4008544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5375B-11FC-4A03-9975-5CB82E07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11B5-2DA7-402F-BD20-6099CB0F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FA9B-0AE3-4959-A774-67C78D70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D6F66-1A46-4387-B1FB-ABB2BEC0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3FDC-0D41-44B4-8C52-CF90C1CB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57949-9620-4CE0-AFFE-D3B1FA3D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4F334-A0B0-41EB-B1AB-F269A338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D994-77D4-4268-91ED-3964C5E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9FE-899C-408F-A0FF-F1040A9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66BBA-2D13-462F-A07D-6E850E7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9F0C3-919B-4002-B1A5-18AC80E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F39A7-0B16-4F36-B521-0C1A4DA4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0A490-F9AF-49CA-8CCD-849F65D9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46864-DF7A-4B59-B7C2-212D05A6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0C18-322D-459F-A9D3-DA94B2B6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958DD-DD3B-49BC-815A-0ABFC14F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87726-4575-4391-BFD0-03560595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36C39-E060-436D-BFA6-58CEE64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FDD92-C871-40E2-A18F-5091CF9A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5BE-04CF-4C4B-B411-1ABE3CF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18AB3-1393-432B-93D2-F59B1EBA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FA385-19A6-4E6D-AC60-5B231BEC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F4B8A-AD46-470D-9EF3-FCCE8D6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69FA6-562A-4C54-8DDA-5E6C8827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43E15-2277-4F0A-ADA1-36781E6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9055E-AF5A-482D-AE72-F6D89FED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6590-CE61-4781-8EDD-6EAC922D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5A59CE-014A-4FE9-8D22-0C371CB0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D3DAAC-900C-4CF4-9DC0-0FD651C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3DBEA-8B71-4A34-BAB0-6A4BEA27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6037-D32F-43AB-AC0D-2C22605E223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3909-A4E9-4E62-B4EC-2D7BD78729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DD1-765C-4470-98A6-C70AB1A93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86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336A-87BC-468A-B023-3DB312FBE4F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0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8C25-570B-4C43-97F9-FBB7660FA23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05A-7DE6-4878-A883-CE9A2335E2B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1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B358-64C8-4BDF-B585-667D0BAFC4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6E07-ED99-4B87-B52A-F2CF47E8076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08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5B5C-FCD6-4B13-A5BB-0E8C969B8D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F4F-EA7D-44F6-9713-B65BF41F48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7961400" cy="1494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800240" y="5790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icroscope template: www.biologycorner.com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594360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2 Revolving Nosepiece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for quick change of objec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586728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3 Low Power Objectiv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lens you use when doing proper microscope work. Usually 4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335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4 Medium Power Objectiv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econd lens you use when doing proper microscope work. Usually 10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5562720" y="68580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5 High Power Objectiv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ighest magnification used. Usually 40x. NEVER use the course adjustment when using this le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6 Stage Clips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o keep the slide in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5715000" y="5335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7 Iris Diaphragm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to vary the amount of light passing through the slide. Usually it is better if the amount of light is 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94360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8 Light Sourc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s light up through the diaphragm and through the slide for vie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502" name="Mrs. Clark introduces basic microscope usage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321760" cy="14745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http://www.biologycorner.com/microquiz/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6">
            <a:hlinkClick r:id="rId2" action="ppaction://hlinksldjump"/>
          </p:cNvPr>
          <p:cNvSpPr/>
          <p:nvPr/>
        </p:nvSpPr>
        <p:spPr>
          <a:xfrm>
            <a:off x="7086600" y="0"/>
            <a:ext cx="1676520" cy="53352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44" h="21600">
                <a:moveTo>
                  <a:pt x="0" y="0"/>
                </a:moveTo>
                <a:lnTo>
                  <a:pt x="67844" y="0"/>
                </a:lnTo>
                <a:lnTo>
                  <a:pt x="67844" y="21600"/>
                </a:lnTo>
                <a:lnTo>
                  <a:pt x="0" y="21600"/>
                </a:lnTo>
                <a:close/>
              </a:path>
              <a:path fill="lightenLess" w="67844" h="21600">
                <a:moveTo>
                  <a:pt x="0" y="0"/>
                </a:moveTo>
                <a:lnTo>
                  <a:pt x="67844" y="0"/>
                </a:lnTo>
                <a:lnTo>
                  <a:pt x="66444" y="1400"/>
                </a:lnTo>
                <a:lnTo>
                  <a:pt x="1400" y="1400"/>
                </a:lnTo>
                <a:close/>
              </a:path>
              <a:path fill="darken" w="67844" h="21600">
                <a:moveTo>
                  <a:pt x="67844" y="0"/>
                </a:moveTo>
                <a:lnTo>
                  <a:pt x="67844" y="21600"/>
                </a:lnTo>
                <a:lnTo>
                  <a:pt x="66444" y="20200"/>
                </a:lnTo>
                <a:lnTo>
                  <a:pt x="66444" y="1400"/>
                </a:lnTo>
                <a:close/>
              </a:path>
              <a:path fill="darkenLess" w="67844" h="21600">
                <a:moveTo>
                  <a:pt x="67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44" y="20200"/>
                </a:lnTo>
                <a:close/>
              </a:path>
              <a:path fill="lighten" w="67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>
            <a:hlinkClick r:id="rId3" action="ppaction://hlinksldjump"/>
          </p:cNvPr>
          <p:cNvSpPr/>
          <p:nvPr/>
        </p:nvSpPr>
        <p:spPr>
          <a:xfrm>
            <a:off x="7086600" y="18288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>
            <a:hlinkClick r:id="rId4" action="ppaction://hlinksldjump"/>
          </p:cNvPr>
          <p:cNvSpPr/>
          <p:nvPr/>
        </p:nvSpPr>
        <p:spPr>
          <a:xfrm>
            <a:off x="7086600" y="3048120"/>
            <a:ext cx="1600200" cy="533160"/>
          </a:xfrm>
          <a:custGeom>
            <a:avLst/>
            <a:gdLst>
              <a:gd name="textAreaLeft" fmla="*/ 34560 w 1600200"/>
              <a:gd name="textAreaRight" fmla="*/ 1565640 w 16002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9">
            <a:hlinkClick r:id="rId5" action="ppaction://hlinksldjump"/>
          </p:cNvPr>
          <p:cNvSpPr/>
          <p:nvPr/>
        </p:nvSpPr>
        <p:spPr>
          <a:xfrm>
            <a:off x="7086600" y="3733920"/>
            <a:ext cx="1676520" cy="53316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90" h="21600">
                <a:moveTo>
                  <a:pt x="0" y="0"/>
                </a:moveTo>
                <a:lnTo>
                  <a:pt x="67890" y="0"/>
                </a:lnTo>
                <a:lnTo>
                  <a:pt x="67890" y="21600"/>
                </a:lnTo>
                <a:lnTo>
                  <a:pt x="0" y="21600"/>
                </a:lnTo>
                <a:close/>
              </a:path>
              <a:path fill="lightenLess" w="67890" h="21600">
                <a:moveTo>
                  <a:pt x="0" y="0"/>
                </a:moveTo>
                <a:lnTo>
                  <a:pt x="67890" y="0"/>
                </a:lnTo>
                <a:lnTo>
                  <a:pt x="66490" y="1400"/>
                </a:lnTo>
                <a:lnTo>
                  <a:pt x="1400" y="1400"/>
                </a:lnTo>
                <a:close/>
              </a:path>
              <a:path fill="darken" w="67890" h="21600">
                <a:moveTo>
                  <a:pt x="67890" y="0"/>
                </a:moveTo>
                <a:lnTo>
                  <a:pt x="67890" y="21600"/>
                </a:lnTo>
                <a:lnTo>
                  <a:pt x="66490" y="20200"/>
                </a:lnTo>
                <a:lnTo>
                  <a:pt x="66490" y="1400"/>
                </a:lnTo>
                <a:close/>
              </a:path>
              <a:path fill="darkenLess" w="67890" h="21600">
                <a:moveTo>
                  <a:pt x="67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90" y="20200"/>
                </a:lnTo>
                <a:close/>
              </a:path>
              <a:path fill="lighten" w="67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10">
            <a:hlinkClick r:id="rId6" action="ppaction://hlinksldjump"/>
          </p:cNvPr>
          <p:cNvSpPr/>
          <p:nvPr/>
        </p:nvSpPr>
        <p:spPr>
          <a:xfrm>
            <a:off x="7162920" y="434340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1">
            <a:hlinkClick r:id="rId7" action="ppaction://hlinksldjump"/>
          </p:cNvPr>
          <p:cNvSpPr/>
          <p:nvPr/>
        </p:nvSpPr>
        <p:spPr>
          <a:xfrm>
            <a:off x="7238880" y="5410080"/>
            <a:ext cx="1676520" cy="53352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44" h="21600">
                <a:moveTo>
                  <a:pt x="0" y="0"/>
                </a:moveTo>
                <a:lnTo>
                  <a:pt x="67844" y="0"/>
                </a:lnTo>
                <a:lnTo>
                  <a:pt x="67844" y="21600"/>
                </a:lnTo>
                <a:lnTo>
                  <a:pt x="0" y="21600"/>
                </a:lnTo>
                <a:close/>
              </a:path>
              <a:path fill="lightenLess" w="67844" h="21600">
                <a:moveTo>
                  <a:pt x="0" y="0"/>
                </a:moveTo>
                <a:lnTo>
                  <a:pt x="67844" y="0"/>
                </a:lnTo>
                <a:lnTo>
                  <a:pt x="66444" y="1400"/>
                </a:lnTo>
                <a:lnTo>
                  <a:pt x="1400" y="1400"/>
                </a:lnTo>
                <a:close/>
              </a:path>
              <a:path fill="darken" w="67844" h="21600">
                <a:moveTo>
                  <a:pt x="67844" y="0"/>
                </a:moveTo>
                <a:lnTo>
                  <a:pt x="67844" y="21600"/>
                </a:lnTo>
                <a:lnTo>
                  <a:pt x="66444" y="20200"/>
                </a:lnTo>
                <a:lnTo>
                  <a:pt x="66444" y="1400"/>
                </a:lnTo>
                <a:close/>
              </a:path>
              <a:path fill="darkenLess" w="67844" h="21600">
                <a:moveTo>
                  <a:pt x="67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44" y="20200"/>
                </a:lnTo>
                <a:close/>
              </a:path>
              <a:path fill="lighten" w="67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12">
            <a:hlinkClick r:id="rId8" action="ppaction://hlinksldjump"/>
          </p:cNvPr>
          <p:cNvSpPr/>
          <p:nvPr/>
        </p:nvSpPr>
        <p:spPr>
          <a:xfrm>
            <a:off x="1676520" y="60948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13">
            <a:hlinkClick r:id="rId9" action="ppaction://hlinksldjump"/>
          </p:cNvPr>
          <p:cNvSpPr/>
          <p:nvPr/>
        </p:nvSpPr>
        <p:spPr>
          <a:xfrm>
            <a:off x="1752480" y="1600200"/>
            <a:ext cx="1676520" cy="53352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44" h="21600">
                <a:moveTo>
                  <a:pt x="0" y="0"/>
                </a:moveTo>
                <a:lnTo>
                  <a:pt x="67844" y="0"/>
                </a:lnTo>
                <a:lnTo>
                  <a:pt x="67844" y="21600"/>
                </a:lnTo>
                <a:lnTo>
                  <a:pt x="0" y="21600"/>
                </a:lnTo>
                <a:close/>
              </a:path>
              <a:path fill="lightenLess" w="67844" h="21600">
                <a:moveTo>
                  <a:pt x="0" y="0"/>
                </a:moveTo>
                <a:lnTo>
                  <a:pt x="67844" y="0"/>
                </a:lnTo>
                <a:lnTo>
                  <a:pt x="66444" y="1400"/>
                </a:lnTo>
                <a:lnTo>
                  <a:pt x="1400" y="1400"/>
                </a:lnTo>
                <a:close/>
              </a:path>
              <a:path fill="darken" w="67844" h="21600">
                <a:moveTo>
                  <a:pt x="67844" y="0"/>
                </a:moveTo>
                <a:lnTo>
                  <a:pt x="67844" y="21600"/>
                </a:lnTo>
                <a:lnTo>
                  <a:pt x="66444" y="20200"/>
                </a:lnTo>
                <a:lnTo>
                  <a:pt x="66444" y="1400"/>
                </a:lnTo>
                <a:close/>
              </a:path>
              <a:path fill="darkenLess" w="67844" h="21600">
                <a:moveTo>
                  <a:pt x="67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44" y="20200"/>
                </a:lnTo>
                <a:close/>
              </a:path>
              <a:path fill="lighten" w="67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14">
            <a:hlinkClick r:id="rId10" action="ppaction://hlinksldjump"/>
          </p:cNvPr>
          <p:cNvSpPr/>
          <p:nvPr/>
        </p:nvSpPr>
        <p:spPr>
          <a:xfrm>
            <a:off x="1676520" y="220968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15">
            <a:hlinkClick r:id="rId11" action="ppaction://hlinksldjump"/>
          </p:cNvPr>
          <p:cNvSpPr/>
          <p:nvPr/>
        </p:nvSpPr>
        <p:spPr>
          <a:xfrm>
            <a:off x="1676520" y="274320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16">
            <a:hlinkClick r:id="rId12" action="ppaction://hlinksldjump"/>
          </p:cNvPr>
          <p:cNvSpPr/>
          <p:nvPr/>
        </p:nvSpPr>
        <p:spPr>
          <a:xfrm>
            <a:off x="1676520" y="3276720"/>
            <a:ext cx="1676160" cy="53316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17">
            <a:hlinkClick r:id="rId13" action="ppaction://hlinksldjump"/>
          </p:cNvPr>
          <p:cNvSpPr/>
          <p:nvPr/>
        </p:nvSpPr>
        <p:spPr>
          <a:xfrm>
            <a:off x="1676520" y="380988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18">
            <a:hlinkClick r:id="rId14" action="ppaction://hlinksldjump"/>
          </p:cNvPr>
          <p:cNvSpPr/>
          <p:nvPr/>
        </p:nvSpPr>
        <p:spPr>
          <a:xfrm>
            <a:off x="1676520" y="434340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19">
            <a:hlinkClick r:id="rId15" action="ppaction://hlinksldjump"/>
          </p:cNvPr>
          <p:cNvSpPr/>
          <p:nvPr/>
        </p:nvSpPr>
        <p:spPr>
          <a:xfrm>
            <a:off x="1676520" y="4952880"/>
            <a:ext cx="1676160" cy="53352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7830" h="21600">
                <a:moveTo>
                  <a:pt x="0" y="0"/>
                </a:moveTo>
                <a:lnTo>
                  <a:pt x="67830" y="0"/>
                </a:lnTo>
                <a:lnTo>
                  <a:pt x="67830" y="21600"/>
                </a:lnTo>
                <a:lnTo>
                  <a:pt x="0" y="21600"/>
                </a:lnTo>
                <a:close/>
              </a:path>
              <a:path fill="lightenLess" w="67830" h="21600">
                <a:moveTo>
                  <a:pt x="0" y="0"/>
                </a:moveTo>
                <a:lnTo>
                  <a:pt x="67830" y="0"/>
                </a:lnTo>
                <a:lnTo>
                  <a:pt x="66430" y="1400"/>
                </a:lnTo>
                <a:lnTo>
                  <a:pt x="1400" y="1400"/>
                </a:lnTo>
                <a:close/>
              </a:path>
              <a:path fill="darken" w="67830" h="21600">
                <a:moveTo>
                  <a:pt x="67830" y="0"/>
                </a:moveTo>
                <a:lnTo>
                  <a:pt x="67830" y="21600"/>
                </a:lnTo>
                <a:lnTo>
                  <a:pt x="66430" y="20200"/>
                </a:lnTo>
                <a:lnTo>
                  <a:pt x="66430" y="1400"/>
                </a:lnTo>
                <a:close/>
              </a:path>
              <a:path fill="darkenLess" w="67830" h="21600">
                <a:moveTo>
                  <a:pt x="67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30" y="20200"/>
                </a:lnTo>
                <a:close/>
              </a:path>
              <a:path fill="lighten" w="67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3"/>
          <p:cNvSpPr/>
          <p:nvPr/>
        </p:nvSpPr>
        <p:spPr>
          <a:xfrm>
            <a:off x="6019920" y="685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9 Eye Piece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 you look at with your eye. Usually 10 X magnif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4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63" name="AutoShape 3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0 Arm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safely transport micro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3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1 Stag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s are placed on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3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5638680" y="6094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2 Coarse Adjustment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make large changes in focus. NOTE Never use this when viewing on high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3">
            <a:hlinkClick r:id="rId2" action="ppaction://hlinksldjump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3 Fine Adjustment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sharpen up a focused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4 Bas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to safely transport the micro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microscope-boxed"/>
          <p:cNvPicPr/>
          <p:nvPr/>
        </p:nvPicPr>
        <p:blipFill>
          <a:blip r:embed="rId1"/>
          <a:stretch/>
        </p:blipFill>
        <p:spPr>
          <a:xfrm>
            <a:off x="1371600" y="0"/>
            <a:ext cx="7315200" cy="685476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3">
            <a:hlinkClick r:id="rId2"/>
          </p:cNvPr>
          <p:cNvSpPr/>
          <p:nvPr/>
        </p:nvSpPr>
        <p:spPr>
          <a:xfrm>
            <a:off x="0" y="5486400"/>
            <a:ext cx="2895480" cy="1371600"/>
          </a:xfrm>
          <a:custGeom>
            <a:avLst/>
            <a:gdLst>
              <a:gd name="textAreaLeft" fmla="*/ 88560 w 2895480"/>
              <a:gd name="textAreaRight" fmla="*/ 2806920 w 289548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5592" h="21600">
                <a:moveTo>
                  <a:pt x="0" y="0"/>
                </a:moveTo>
                <a:lnTo>
                  <a:pt x="45592" y="0"/>
                </a:lnTo>
                <a:lnTo>
                  <a:pt x="45592" y="21600"/>
                </a:lnTo>
                <a:lnTo>
                  <a:pt x="0" y="21600"/>
                </a:lnTo>
                <a:close/>
              </a:path>
              <a:path fill="lightenLess" w="45592" h="21600">
                <a:moveTo>
                  <a:pt x="0" y="0"/>
                </a:moveTo>
                <a:lnTo>
                  <a:pt x="45592" y="0"/>
                </a:lnTo>
                <a:lnTo>
                  <a:pt x="44192" y="1400"/>
                </a:lnTo>
                <a:lnTo>
                  <a:pt x="1400" y="1400"/>
                </a:lnTo>
                <a:close/>
              </a:path>
              <a:path fill="darken" w="45592" h="21600">
                <a:moveTo>
                  <a:pt x="45592" y="0"/>
                </a:moveTo>
                <a:lnTo>
                  <a:pt x="45592" y="21600"/>
                </a:lnTo>
                <a:lnTo>
                  <a:pt x="44192" y="20200"/>
                </a:lnTo>
                <a:lnTo>
                  <a:pt x="44192" y="1400"/>
                </a:lnTo>
                <a:close/>
              </a:path>
              <a:path fill="darkenLess" w="45592" h="21600">
                <a:moveTo>
                  <a:pt x="4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2" y="20200"/>
                </a:lnTo>
                <a:close/>
              </a:path>
              <a:path fill="lighten" w="4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to Ret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Main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594360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 BodyTube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s light up to the viewers e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7:32:05Z</dcterms:created>
  <dc:creator>SDW</dc:creator>
  <dc:description/>
  <dc:language>en-US</dc:language>
  <cp:lastModifiedBy>clark</cp:lastModifiedBy>
  <dcterms:modified xsi:type="dcterms:W3CDTF">2010-01-15T02:30:23Z</dcterms:modified>
  <cp:revision>25</cp:revision>
  <dc:subject/>
  <dc:title>Parts of the Microscope  and Their Function</dc:title>
</cp:coreProperties>
</file>